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CC5-00E7-4E21-9BAF-CE63443D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C521-18B4-48ED-B87B-CF8090A7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EAE7-DAF9-4237-94E4-770365A1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739D-7408-4E48-B26E-9267B298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74FF-8329-4A67-9074-9BC9DBA2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7833-B8D0-426B-ACB5-064F0801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F9D-8412-4F5F-B258-5BD097A6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3B3-12FD-4E36-BEFE-32FFBE50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455-CC4C-41BE-8F64-B84B995F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D0E-02F0-4F0C-8217-3EECCDF0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7C73-E423-4F26-93FB-E2BB1860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B24-7C6B-4CD1-941D-FD3F44D4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4854-9E44-40DB-9CA0-F811CED3A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990720"/>
            <a:ext cx="7315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cycle at Lunch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 rot="5400000">
            <a:off x="-685800" y="4495680"/>
            <a:ext cx="36576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Velvenda Cooler"/>
              </a:rPr>
              <a:t>Water Bottl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Velvenda Cooler"/>
              <a:ea typeface="Velvenda Cooler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00600" y="4419720"/>
            <a:ext cx="3124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ff"/>
                  </a:solidFill>
                  <a:miter/>
                </a:ln>
                <a:gradFill rotWithShape="0">
                  <a:gsLst>
                    <a:gs pos="0">
                      <a:srgbClr val="0dff87"/>
                    </a:gs>
                    <a:gs pos="100000">
                      <a:srgbClr val="0066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Sybil Green"/>
              </a:rPr>
              <a:t>Milk Cartons</a:t>
            </a:r>
            <a:endParaRPr b="0" lang="en-US" sz="1800" spc="1" strike="noStrike">
              <a:ln w="9360">
                <a:solidFill>
                  <a:srgbClr val="3333ff"/>
                </a:solidFill>
                <a:miter/>
              </a:ln>
              <a:gradFill rotWithShape="0">
                <a:gsLst>
                  <a:gs pos="0">
                    <a:srgbClr val="0dff87"/>
                  </a:gs>
                  <a:gs pos="100000">
                    <a:srgbClr val="006600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Sybil Green"/>
              <a:ea typeface="Sybil Gree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0448000">
            <a:off x="7924320" y="4952880"/>
            <a:ext cx="754200" cy="1517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351000">
            <a:off x="1600200" y="4114440"/>
            <a:ext cx="1685880" cy="2362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8458200" y="152280"/>
            <a:ext cx="504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5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5:15:07Z</dcterms:created>
  <dc:creator>mes5c</dc:creator>
  <dc:description/>
  <dc:language>en-US</dc:language>
  <cp:lastModifiedBy>mes5c</cp:lastModifiedBy>
  <dcterms:modified xsi:type="dcterms:W3CDTF">2011-02-03T13:11:07Z</dcterms:modified>
  <cp:revision>2</cp:revision>
  <dc:subject/>
  <dc:title>Slide 1</dc:title>
</cp:coreProperties>
</file>